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9.jpeg" ContentType="image/jpeg"/>
  <Override PartName="/ppt/media/image10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36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0A00-D1AD-432E-B521-EA36096F0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66EA-991F-4FE7-9C7B-9A157FE0B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F396-55A7-40F5-A0CD-93FC87736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yndon Johnson's 1964 "daisy" ad implied that Republican presidential candidate Barry Goldwater might lead the world to nuclear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BCC2-1F28-41DA-8FBC-DEF5674CB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3513-2B70-40D0-A17F-684D5573C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JOHNSON “TREATS” SENATE MAJORITY LEADER RUSSELL IN ORDER TO SECURE VOTES TO PASS CIVIL RIGHTS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B781-44AA-40B1-92C7-7CBF07254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t brought war to South Vietnamese cities for the first time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29B0-3EA1-4938-A2CC-22BA2EA74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fe: Lady Bi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s: Lynda Bird &amp; Lu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B1E7-C592-4E1B-9DDE-1DC1C0B92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 years of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B02A-E796-49E1-8D03-A67F63EBA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 1 Dr. Teller: scientist/image 2: Civil rights bill discussed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sident Lyndon Johnson with Senator Richard Russell at the White House, December 7, 1963, Washington, DC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mage 3 senate majority leader Johnson works over Chairman of the Senate Foreign relations cmmittee in 19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BBD1-1531-4899-8C5B-4BE34E79A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yndon Johnson's 1964 "daisy" ad implied that Republican presidential candidate Barry Goldwater might lead the world to nuclear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png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johnson_headdown_sm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57440" y="0"/>
            <a:ext cx="5734080" cy="68580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pic>
        <p:nvPicPr>
          <p:cNvPr id="1" name="Picture 10" descr="CivilRightsActJohnson"/>
          <p:cNvPicPr/>
          <p:nvPr/>
        </p:nvPicPr>
        <p:blipFill>
          <a:blip r:embed="rId3"/>
          <a:srcRect l="57608" t="39560" r="0" b="0"/>
          <a:stretch/>
        </p:blipFill>
        <p:spPr>
          <a:xfrm>
            <a:off x="7816680" y="4343400"/>
            <a:ext cx="1327320" cy="13762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3" descr="LBJ_book_rdax_282x420_80"/>
          <p:cNvPicPr/>
          <p:nvPr/>
        </p:nvPicPr>
        <p:blipFill>
          <a:blip r:embed="rId4">
            <a:grayscl/>
          </a:blip>
          <a:stretch/>
        </p:blipFill>
        <p:spPr>
          <a:xfrm>
            <a:off x="7969320" y="0"/>
            <a:ext cx="1174680" cy="17524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6" descr="lbj-lb"/>
          <p:cNvPicPr/>
          <p:nvPr/>
        </p:nvPicPr>
        <p:blipFill>
          <a:blip r:embed="rId5"/>
          <a:srcRect l="12598" t="0" r="0" b="0"/>
          <a:stretch/>
        </p:blipFill>
        <p:spPr>
          <a:xfrm>
            <a:off x="7705800" y="5730840"/>
            <a:ext cx="1438200" cy="112716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1" descr="johnson2aking"/>
          <p:cNvPicPr/>
          <p:nvPr/>
        </p:nvPicPr>
        <p:blipFill>
          <a:blip r:embed="rId6"/>
          <a:stretch/>
        </p:blipFill>
        <p:spPr>
          <a:xfrm>
            <a:off x="0" y="2743200"/>
            <a:ext cx="1243080" cy="1371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6" descr="ednext20041_26b"/>
          <p:cNvPicPr/>
          <p:nvPr/>
        </p:nvPicPr>
        <p:blipFill>
          <a:blip r:embed="rId7"/>
          <a:srcRect l="-9594" t="0" r="-9594" b="0"/>
          <a:stretch/>
        </p:blipFill>
        <p:spPr>
          <a:xfrm>
            <a:off x="-152280" y="5742000"/>
            <a:ext cx="1666800" cy="9637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7" descr="nara_johnson_decorates_vietnam_soldier_general_willliam_westmoreland_1966_210"/>
          <p:cNvPicPr/>
          <p:nvPr/>
        </p:nvPicPr>
        <p:blipFill>
          <a:blip r:embed="rId8">
            <a:grayscl/>
          </a:blip>
          <a:srcRect l="0" t="0" r="41609" b="0"/>
          <a:stretch/>
        </p:blipFill>
        <p:spPr>
          <a:xfrm>
            <a:off x="0" y="4133880"/>
            <a:ext cx="1243080" cy="15048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9" descr="inaug_johnson_af1"/>
          <p:cNvPicPr/>
          <p:nvPr/>
        </p:nvPicPr>
        <p:blipFill>
          <a:blip r:embed="rId9"/>
          <a:stretch/>
        </p:blipFill>
        <p:spPr>
          <a:xfrm>
            <a:off x="6480" y="1292400"/>
            <a:ext cx="1288800" cy="13744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30" descr="14585_advertisements_poster_frame_838_large"/>
          <p:cNvPicPr/>
          <p:nvPr/>
        </p:nvPicPr>
        <p:blipFill>
          <a:blip r:embed="rId10"/>
          <a:stretch/>
        </p:blipFill>
        <p:spPr>
          <a:xfrm>
            <a:off x="7924680" y="1752480"/>
            <a:ext cx="1219320" cy="9144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31" descr="jfkandlbj"/>
          <p:cNvPicPr/>
          <p:nvPr/>
        </p:nvPicPr>
        <p:blipFill>
          <a:blip r:embed="rId11"/>
          <a:stretch/>
        </p:blipFill>
        <p:spPr>
          <a:xfrm>
            <a:off x="0" y="30240"/>
            <a:ext cx="1371600" cy="118908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32" descr="lbjhhh-1"/>
          <p:cNvPicPr/>
          <p:nvPr/>
        </p:nvPicPr>
        <p:blipFill>
          <a:blip r:embed="rId12"/>
          <a:stretch/>
        </p:blipFill>
        <p:spPr>
          <a:xfrm>
            <a:off x="7696080" y="2590920"/>
            <a:ext cx="1447920" cy="50616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33" descr="howl"/>
          <p:cNvPicPr/>
          <p:nvPr/>
        </p:nvPicPr>
        <p:blipFill>
          <a:blip r:embed="rId13"/>
          <a:stretch/>
        </p:blipFill>
        <p:spPr>
          <a:xfrm>
            <a:off x="7953480" y="3124080"/>
            <a:ext cx="1114200" cy="11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Cl4awae0R0M&amp;mode=related&amp;search=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HAtUjJpVLY" TargetMode="External"/><Relationship Id="rId2" Type="http://schemas.openxmlformats.org/officeDocument/2006/relationships/hyperlink" Target="http://www.youtube.com/watch?v=Ix7is2yU-uQ&amp;mode=related&amp;search=" TargetMode="External"/><Relationship Id="rId3" Type="http://schemas.openxmlformats.org/officeDocument/2006/relationships/hyperlink" Target="http://www.youtube.com/watch?v=KIxlsr3UUkY&amp;mode=related&amp;search=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1753920" y="15732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eat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2287440" y="60948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ar on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3202560" y="114300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r in Vietn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1755360" y="4952880"/>
            <a:ext cx="39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vil Rights Act of 19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3007800" y="5638680"/>
            <a:ext cx="42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oting Rights Act of 19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aisy Ad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362320" y="243828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Cl4awae0R0M&amp;mode=related&amp;search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son/Humphr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450px-ElectoralCollege1964-Large"/>
          <p:cNvPicPr/>
          <p:nvPr/>
        </p:nvPicPr>
        <p:blipFill>
          <a:blip r:embed="rId1"/>
          <a:stretch/>
        </p:blipFill>
        <p:spPr>
          <a:xfrm>
            <a:off x="1447920" y="1747800"/>
            <a:ext cx="6095880" cy="3890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lbj_4C"/>
          <p:cNvPicPr/>
          <p:nvPr/>
        </p:nvPicPr>
        <p:blipFill>
          <a:blip r:embed="rId2"/>
          <a:stretch/>
        </p:blipFill>
        <p:spPr>
          <a:xfrm>
            <a:off x="1576440" y="1295280"/>
            <a:ext cx="2768400" cy="2971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LBJ-all-the-way"/>
          <p:cNvPicPr/>
          <p:nvPr/>
        </p:nvPicPr>
        <p:blipFill>
          <a:blip r:embed="rId3"/>
          <a:stretch/>
        </p:blipFill>
        <p:spPr>
          <a:xfrm>
            <a:off x="4419720" y="1411200"/>
            <a:ext cx="3335040" cy="2855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lbj1E"/>
          <p:cNvPicPr/>
          <p:nvPr/>
        </p:nvPicPr>
        <p:blipFill>
          <a:blip r:embed="rId4"/>
          <a:stretch/>
        </p:blipFill>
        <p:spPr>
          <a:xfrm>
            <a:off x="1676520" y="4343400"/>
            <a:ext cx="2482560" cy="2514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lbj11D"/>
          <p:cNvPicPr/>
          <p:nvPr/>
        </p:nvPicPr>
        <p:blipFill>
          <a:blip r:embed="rId5"/>
          <a:stretch/>
        </p:blipFill>
        <p:spPr>
          <a:xfrm>
            <a:off x="4802040" y="4267080"/>
            <a:ext cx="25592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450px-ElectoralCollege1964-Large"/>
          <p:cNvPicPr/>
          <p:nvPr/>
        </p:nvPicPr>
        <p:blipFill>
          <a:blip r:embed="rId1"/>
          <a:stretch/>
        </p:blipFill>
        <p:spPr>
          <a:xfrm>
            <a:off x="685800" y="1295280"/>
            <a:ext cx="80773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9"/>
          <p:cNvSpPr/>
          <p:nvPr/>
        </p:nvSpPr>
        <p:spPr>
          <a:xfrm>
            <a:off x="1585800" y="1949400"/>
            <a:ext cx="34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vil Rights Legi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mlk_lbj"/>
          <p:cNvPicPr/>
          <p:nvPr/>
        </p:nvPicPr>
        <p:blipFill>
          <a:blip r:embed="rId1"/>
          <a:stretch/>
        </p:blipFill>
        <p:spPr>
          <a:xfrm>
            <a:off x="1523880" y="4330800"/>
            <a:ext cx="3810240" cy="2527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lbj-and-richard-russell"/>
          <p:cNvPicPr/>
          <p:nvPr/>
        </p:nvPicPr>
        <p:blipFill>
          <a:blip r:embed="rId2"/>
          <a:stretch/>
        </p:blipFill>
        <p:spPr>
          <a:xfrm>
            <a:off x="5943600" y="4525920"/>
            <a:ext cx="3200400" cy="233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johnson2aking"/>
          <p:cNvPicPr/>
          <p:nvPr/>
        </p:nvPicPr>
        <p:blipFill>
          <a:blip r:embed="rId3"/>
          <a:stretch/>
        </p:blipFill>
        <p:spPr>
          <a:xfrm>
            <a:off x="5494320" y="380880"/>
            <a:ext cx="3649680" cy="40258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4"/>
          <p:cNvSpPr/>
          <p:nvPr/>
        </p:nvSpPr>
        <p:spPr>
          <a:xfrm>
            <a:off x="1908000" y="2895480"/>
            <a:ext cx="29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l Rights Act 19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1831680" y="365760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ing Rights Act 19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1602360" y="990720"/>
            <a:ext cx="37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ALL OVERCOM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Shall Overcom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5410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youtube.com/watch?v=bKDVNSpsBZE&amp;mode=related&amp;search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ourdocuments.gov/doc.php?flash=true&amp;doc=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ourdocuments.gov/doc.php?doc=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lf of Tonkin Resolution 19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youtube.com/watch?v=HQDiRk8zzAw&amp;NR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3200" spc="-1" strike="noStrike">
                <a:solidFill>
                  <a:srgbClr val="666666"/>
                </a:solidFill>
                <a:latin typeface="Verdana"/>
              </a:rPr>
              <a:t>A US ship was attacked on 2 August 1964. But was there a seco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_41081908_vietnam203ap"/>
          <p:cNvPicPr/>
          <p:nvPr/>
        </p:nvPicPr>
        <p:blipFill>
          <a:blip r:embed="rId1"/>
          <a:stretch/>
        </p:blipFill>
        <p:spPr>
          <a:xfrm>
            <a:off x="1752480" y="2743200"/>
            <a:ext cx="541044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t Offensive 196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4"/>
          <p:cNvPicPr/>
          <p:nvPr/>
        </p:nvPicPr>
        <p:blipFill>
          <a:blip r:embed="rId1"/>
          <a:stretch/>
        </p:blipFill>
        <p:spPr>
          <a:xfrm>
            <a:off x="2971800" y="990720"/>
            <a:ext cx="3686040" cy="5867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4"/>
          <p:cNvPicPr/>
          <p:nvPr/>
        </p:nvPicPr>
        <p:blipFill>
          <a:blip r:embed="rId2"/>
          <a:stretch/>
        </p:blipFill>
        <p:spPr>
          <a:xfrm>
            <a:off x="4038480" y="2747880"/>
            <a:ext cx="3276720" cy="2454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p338 "/>
          <p:cNvPicPr/>
          <p:nvPr/>
        </p:nvPicPr>
        <p:blipFill>
          <a:blip r:embed="rId3"/>
          <a:stretch/>
        </p:blipFill>
        <p:spPr>
          <a:xfrm>
            <a:off x="304920" y="839880"/>
            <a:ext cx="7772400" cy="6094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p340 "/>
          <p:cNvPicPr/>
          <p:nvPr/>
        </p:nvPicPr>
        <p:blipFill>
          <a:blip r:embed="rId4"/>
          <a:stretch/>
        </p:blipFill>
        <p:spPr>
          <a:xfrm>
            <a:off x="990720" y="914400"/>
            <a:ext cx="7162560" cy="5423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p343 "/>
          <p:cNvPicPr/>
          <p:nvPr/>
        </p:nvPicPr>
        <p:blipFill>
          <a:blip r:embed="rId5"/>
          <a:stretch/>
        </p:blipFill>
        <p:spPr>
          <a:xfrm>
            <a:off x="1066680" y="1295280"/>
            <a:ext cx="6705720" cy="5213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tetoffensive268x157"/>
          <p:cNvPicPr/>
          <p:nvPr/>
        </p:nvPicPr>
        <p:blipFill>
          <a:blip r:embed="rId6"/>
          <a:stretch/>
        </p:blipFill>
        <p:spPr>
          <a:xfrm>
            <a:off x="1143000" y="1828800"/>
            <a:ext cx="662940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6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8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2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4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1968 Dec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09680" y="2285640"/>
            <a:ext cx="4572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presidency.ucsb.edu/ws/index.php?pid=287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8 Tet Offens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youtube.com/watch?v=i214f5-w19w&amp;mode=related&amp;search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nkite’s edi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ident Johnson “If I’ve lost Cronkite, I’ve lost the American peopl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exan’s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ladybird2"/>
          <p:cNvPicPr/>
          <p:nvPr/>
        </p:nvPicPr>
        <p:blipFill>
          <a:blip r:embed="rId1"/>
          <a:stretch/>
        </p:blipFill>
        <p:spPr>
          <a:xfrm>
            <a:off x="2577960" y="1523880"/>
            <a:ext cx="3988080" cy="5081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ladybird1"/>
          <p:cNvPicPr/>
          <p:nvPr/>
        </p:nvPicPr>
        <p:blipFill>
          <a:blip r:embed="rId2"/>
          <a:stretch/>
        </p:blipFill>
        <p:spPr>
          <a:xfrm>
            <a:off x="2825640" y="1523880"/>
            <a:ext cx="3492720" cy="5081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lbj-lb"/>
          <p:cNvPicPr/>
          <p:nvPr/>
        </p:nvPicPr>
        <p:blipFill>
          <a:blip r:embed="rId3"/>
          <a:stretch/>
        </p:blipFill>
        <p:spPr>
          <a:xfrm>
            <a:off x="214200" y="442800"/>
            <a:ext cx="8713800" cy="5970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LBJ%20ranch%20Photo"/>
          <p:cNvPicPr/>
          <p:nvPr/>
        </p:nvPicPr>
        <p:blipFill>
          <a:blip r:embed="rId4"/>
          <a:stretch/>
        </p:blipFill>
        <p:spPr>
          <a:xfrm>
            <a:off x="838080" y="876240"/>
            <a:ext cx="7391520" cy="5159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402px-Lynda_Bird_Johnson_and_Charles_Robb_wedding"/>
          <p:cNvPicPr/>
          <p:nvPr/>
        </p:nvPicPr>
        <p:blipFill>
          <a:blip r:embed="rId5"/>
          <a:srcRect l="0" t="32455" r="0" b="24041"/>
          <a:stretch/>
        </p:blipFill>
        <p:spPr>
          <a:xfrm>
            <a:off x="2019240" y="2093760"/>
            <a:ext cx="510552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4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BJ’s Resu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7920" y="2057400"/>
            <a:ext cx="3962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ressional Sta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 of the House of Represent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 Se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ity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ce-Pres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LBJ_book_rdax_282x420_80"/>
          <p:cNvPicPr/>
          <p:nvPr/>
        </p:nvPicPr>
        <p:blipFill>
          <a:blip r:embed="rId1"/>
          <a:stretch/>
        </p:blipFill>
        <p:spPr>
          <a:xfrm>
            <a:off x="2781360" y="1219320"/>
            <a:ext cx="3581280" cy="5335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jfkandlbj"/>
          <p:cNvPicPr/>
          <p:nvPr/>
        </p:nvPicPr>
        <p:blipFill>
          <a:blip r:embed="rId2"/>
          <a:stretch/>
        </p:blipFill>
        <p:spPr>
          <a:xfrm>
            <a:off x="2286000" y="1868400"/>
            <a:ext cx="4495680" cy="38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1080" y="76320"/>
            <a:ext cx="4724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Johnson Treatmen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4114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utation of being “overpowering and intimidat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ded personal space: nose to 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uasive and personable rather than elegant and charm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27"/>
          <p:cNvPicPr/>
          <p:nvPr/>
        </p:nvPicPr>
        <p:blipFill>
          <a:blip r:embed="rId1"/>
          <a:stretch/>
        </p:blipFill>
        <p:spPr>
          <a:xfrm>
            <a:off x="1600200" y="1600200"/>
            <a:ext cx="5740560" cy="4038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lbj-and-richard-russell"/>
          <p:cNvPicPr/>
          <p:nvPr/>
        </p:nvPicPr>
        <p:blipFill>
          <a:blip r:embed="rId2"/>
          <a:stretch/>
        </p:blipFill>
        <p:spPr>
          <a:xfrm>
            <a:off x="1295280" y="1600200"/>
            <a:ext cx="6253200" cy="4554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NSAP358_LARGE"/>
          <p:cNvPicPr/>
          <p:nvPr/>
        </p:nvPicPr>
        <p:blipFill>
          <a:blip r:embed="rId3"/>
          <a:stretch/>
        </p:blipFill>
        <p:spPr>
          <a:xfrm>
            <a:off x="2793960" y="1676520"/>
            <a:ext cx="3556080" cy="4444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nytjohnson"/>
          <p:cNvPicPr/>
          <p:nvPr/>
        </p:nvPicPr>
        <p:blipFill>
          <a:blip r:embed="rId4"/>
          <a:srcRect l="0" t="0" r="0" b="15686"/>
          <a:stretch/>
        </p:blipFill>
        <p:spPr>
          <a:xfrm>
            <a:off x="1925640" y="0"/>
            <a:ext cx="529272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77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77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77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77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8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77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" dur="770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2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4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on Pov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5257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ens of millions of Americans who are beyond the welfare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n as a whole there is a culture of poverty…bad health, poor housing, low levels of aspiration, and high levels of mental distress.  Twenty percent of a nation, some 32,000,000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hael Harrington, author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ulture of Pover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9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on Pov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5257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at Society rests on abundance and liberty for all. It demands an end to poverty and racial injustice.”  LBJ 19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1846440" y="3703680"/>
            <a:ext cx="4741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re and Medic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Cor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Quality and Clean Air 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way Safety 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 Packaging and Labeling 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1964 Ele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20061106-goldwater extremism"/>
          <p:cNvPicPr/>
          <p:nvPr/>
        </p:nvPicPr>
        <p:blipFill>
          <a:blip r:embed="rId1"/>
          <a:stretch/>
        </p:blipFill>
        <p:spPr>
          <a:xfrm>
            <a:off x="1725480" y="838080"/>
            <a:ext cx="5691240" cy="5716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barry_goldwater_button_trans"/>
          <p:cNvPicPr/>
          <p:nvPr/>
        </p:nvPicPr>
        <p:blipFill>
          <a:blip r:embed="rId2"/>
          <a:stretch/>
        </p:blipFill>
        <p:spPr>
          <a:xfrm>
            <a:off x="228600" y="2057400"/>
            <a:ext cx="4800600" cy="4800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goldwater1964brochure"/>
          <p:cNvPicPr/>
          <p:nvPr/>
        </p:nvPicPr>
        <p:blipFill>
          <a:blip r:embed="rId3"/>
          <a:srcRect l="0" t="0" r="0" b="56053"/>
          <a:stretch/>
        </p:blipFill>
        <p:spPr>
          <a:xfrm>
            <a:off x="7246800" y="0"/>
            <a:ext cx="1897200" cy="1936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160px-BarryGoldwater"/>
          <p:cNvPicPr/>
          <p:nvPr/>
        </p:nvPicPr>
        <p:blipFill>
          <a:blip r:embed="rId4"/>
          <a:stretch/>
        </p:blipFill>
        <p:spPr>
          <a:xfrm>
            <a:off x="0" y="0"/>
            <a:ext cx="1951200" cy="2438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Timegoldwater"/>
          <p:cNvPicPr/>
          <p:nvPr/>
        </p:nvPicPr>
        <p:blipFill>
          <a:blip r:embed="rId5"/>
          <a:stretch/>
        </p:blipFill>
        <p:spPr>
          <a:xfrm>
            <a:off x="7162920" y="1905120"/>
            <a:ext cx="198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2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1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3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5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77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3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5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7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77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4" dur="770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6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8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4 Republican Candida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Sen. Barry Gold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tHAtUjJpV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rvatives take over the 1964 Republican National Con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Ix7is2yU-uQ&amp;mode=related&amp;search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youtube.com/watch?v=KIxlsr3UUkY&amp;mode=related&amp;search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nald Reagan campaigns for AgH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aisy Ad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14585_advertisements_poster_frame_838_large"/>
          <p:cNvPicPr/>
          <p:nvPr/>
        </p:nvPicPr>
        <p:blipFill>
          <a:blip r:embed="rId1"/>
          <a:stretch/>
        </p:blipFill>
        <p:spPr>
          <a:xfrm>
            <a:off x="1523880" y="19051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21:59:53Z</dcterms:created>
  <dc:creator>Laura Tucker</dc:creator>
  <dc:description/>
  <dc:language>en-US</dc:language>
  <cp:lastModifiedBy>Sacerdote, Kevin R.</cp:lastModifiedBy>
  <dcterms:modified xsi:type="dcterms:W3CDTF">2017-03-29T12:14:21Z</dcterms:modified>
  <cp:revision>23</cp:revision>
  <dc:subject/>
  <dc:title>PowerPoint Presentation</dc:title>
</cp:coreProperties>
</file>